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791-E1B7-40E7-A0FF-EF12B7C3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FDA-8420-43BC-AC10-F98DC90D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438-76BD-4A3A-950D-80F7390E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596-5237-4944-8BB8-14893775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4A1-A3AE-46D2-9435-00FB089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8BE-3327-47EB-A03D-B7BD7493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5E4-C7D7-4833-BAE9-6874A5CA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D1E-9181-4ECD-863E-BA9A33ED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A47-0133-4099-A128-A73E89E4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B8B-95DD-498E-8256-82BB75E8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42E-793D-423A-8F33-ED40AC60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C52-F615-4634-A1B4-0D0A456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6BC3-98C1-4127-987F-D9BB6B62C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9 Môj Pán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 Pán žije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 výšin on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a skláňa i dn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áskavo k 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yť s ním túžb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 môj je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rád by domov som 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 Pán o mne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ňa rád veľmi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 lásky moje hriechy on sň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lkám, odpo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sť síl mi d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on je Pán môj a 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 Pán vráti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 krátky už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o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ov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ľúbil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ž blízko je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príde z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vládu prevezme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39:06Z</dcterms:modified>
  <cp:revision>23</cp:revision>
  <dc:subject/>
  <dc:title>Je veľký náš Pán, on slávy je Kráľ Nech do všetkých strán  spev vrúcnych znie chvál.</dc:title>
</cp:coreProperties>
</file>